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B5B-D13D-4DE5-BF6C-E98D3DFD251E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ADA5-D92A-4006-ABCE-59D9C1998365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6E1-D6D0-4271-B3DE-C3C761B97D41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Дистрибуција лекова 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 -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последице везивања за протеин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већава се привидна растворљивост лека у плазм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ује се екскреција и метаболизам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езана фракција чини депо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на дистрибуција лека у друге компартма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ктори интеракције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ипоалбуминемија, уремија, старост, компетиција се ендогеним супстанцама и другим леко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теракција на месту везив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чешће интеракција на нивоу клирен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 среди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а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при којој је 50% лека јонизовано а 50% 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ћ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слабе базе су мање а слабе киселине више јонизова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мањој од њихов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K</a:t>
            </a:r>
            <a:r>
              <a:rPr b="0" lang="en-US" sz="1900" spc="-1" strike="noStrike" baseline="-25000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, слабе киселине су мање а слабе базе више јонизоване.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3d62"/>
                </a:solidFill>
                <a:latin typeface="Calibri"/>
              </a:rPr>
              <a:t>цереброспинална течност (ликвор): 7,35; плацента; 7,3  - у њима се концентришу слабе базе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окрвље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боља прокрвљеност ткива олакшава дистрибуцију – лекови се брже дистрибуирају у боље прокрвљена ткива (нпр. срце и бубреге) него у мање прокрвљена (нпр. кожу и масно ткиво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d62"/>
                </a:solidFill>
                <a:latin typeface="Calibri"/>
              </a:rPr>
              <a:t>мозак, плућа, срце, јетра, бубрези &gt; мишићи &gt;масно ткиво &gt;кости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креће се од 10% код мршавих до 50% код гојазних љу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липосолубилни лекови се у масном ткиву нагомилав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3d62"/>
                </a:solidFill>
                <a:latin typeface="Calibri"/>
              </a:rPr>
              <a:t>стабилни депо лека због малог протока кр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Хемато-енцеф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морају да прођу кроз ћелије, јер не могу између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tight junctions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; у значајној мери могу је проћи само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ипофилни или јако мали молекули – пасивном дифузиј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тероидни хормони и етано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имају афинитет за инфлукс транспортере на баријери – олакшаном дифузијом или активним транспорт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Л-ДОПА и опиоиди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баријери се у највећој мери налазе ефлукс транспортери који отежавају улазак лекова у ћелије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ретко пиноцитозом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фламација повећава пропусност и омогућава улазак осталих леко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примена пеницилина код менингитиса и енцефалити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ликво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је пролазе нешто лакше у односу на хемато-енцефалну баријеру, али ипак теже него остале мембра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Хемато-тестикуларна баријер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стоји се од тесно повезаних Сертолијевих ћелија и има за циљ да заштити герминативне ћелије (нарочито сперматиде) од ксенобиоти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солубилни лекови пролазе лако, док велики хидрофилни молекули и лекови са великим афинитетом за протеине плазме пролазе значајно слаб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експримира транспортере (инфлукс и ефлукс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ткивне специфичности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ст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трациклински и други молекули који хелирају двовалентне катјоне, тешки метали се акумулирају у кост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дсорпција на површину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корпорација унутар кристалне структуре минерал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Резервоар токсичних агенаса нпр. олово, радију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штећење крвних судова костне сржи смањује проток крви кроз к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аља акумулација аг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рапијска корист у лечењу остеопороз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19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физиолошких бариј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лацентална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 (високо јонизован)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ифузија - нпр. мидазолам и парацетамо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2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Карактеристике средине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присуство транспортера -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Транспортери су мембрански протеини који регулишу промет супстанци кроз ћелијску мембрану.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 данас је откривено око 350 различитих транспортера, који се према својој функцији могу поделити у две основне групе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BC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3d62"/>
                </a:solidFill>
                <a:latin typeface="Calibri"/>
              </a:rPr>
              <a:t>ATP-binding cassette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 transport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 активно испумпавају супстанце из ћелија, користећи енергију ослобођену хидролизом аденозин-трифосфата (ATP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најбоље изучен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ABCB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, познатији као П-гликопротеин (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-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gp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 ил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DR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1 (</a:t>
            </a:r>
            <a:r>
              <a:rPr b="0" i="1" lang="sr-CS" sz="2000" spc="-1" strike="noStrike">
                <a:solidFill>
                  <a:srgbClr val="003d62"/>
                </a:solidFill>
                <a:latin typeface="Calibri"/>
              </a:rPr>
              <a:t>multidrug-resistance 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protein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SLC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solute carriers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регулишу процес преноса супстанци у и из ћелије олакшаним или активним транспорт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3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. </a:t>
            </a: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Присуство других лекова</a:t>
            </a:r>
            <a:br>
              <a:rPr sz="34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и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нтеракције на нивоу дистрибуциј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теини плазме, нарочито албумини - компетиција за место везив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и интеракције: фуросемид и варфарин, дигоксин и еритромицин, сулфонамиди и билирубин код деце млађе од 2 месец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-гликопротеин - индукција/инхиби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упстрати: калцијумски блокатори, инхибитори ХИВ протеаза, имуносупресиви, хиполипемици, опиоиди, бета блокатори, цитостатици, антибиотици..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дуктори: рифампицин, кантарион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Инхибитори: међу макролидима, имидазолима, калцијумским блокатор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имер интеракције: кантарион и метадо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је виртуелна величина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“apparent volume of distribution”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) која предвиђа у којој мери се лек дистрибуира у организму – представља запремину коју би лек у примењеној дози испунио тако да у свим њеним деловима постигне концентрацију исту као она која је измерена у крв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зражава се у литрима или литрима по килограму телесне мас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дистрибуције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израчунати на основу примењене дозе и постигнуте концентрације у крви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l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D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/ C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0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mg/l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ако се концентрација лека у крви након примене брзо смањује, за процен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лек се примењује интравенски, а концентрација мери непосредно након примене лека, тј пре него што је дистрибуција, метаболизам и елиминација значајно смање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32000" y="4437000"/>
            <a:ext cx="324036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сновни појмови и принцип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ефиниција: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CS" sz="2200" spc="-1" strike="noStrike">
                <a:solidFill>
                  <a:srgbClr val="006699"/>
                </a:solidFill>
                <a:latin typeface="Calibri"/>
              </a:rPr>
              <a:t>Дистрибуција је процес преласка лека од системског крвотока до осталих ткива</a:t>
            </a:r>
            <a:r>
              <a:rPr b="0" lang="sr-CS" sz="2200" spc="-1" strike="noStrike">
                <a:solidFill>
                  <a:srgbClr val="006699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еханизми проласка лека кроз мембране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дифузија (пасивна или олакшан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активни транспор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иноцито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Може се описати кроз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брзину којом се лек дистрибуира у остала ткив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би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представља укупну количину лека која се дистрибуира у остала ткива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2916360" y="3284640"/>
            <a:ext cx="37432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лавна детерминанта волумена дистрибуције је количник фракције лека која је слободна у плазми и фракције лека која је слободна у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=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fu/fu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Latn-RS" sz="3200" spc="-1" strike="noStrike">
                <a:solidFill>
                  <a:srgbClr val="003d62"/>
                </a:solidFill>
                <a:latin typeface="Calibri"/>
              </a:rPr>
              <a:t> + V</a:t>
            </a:r>
            <a:r>
              <a:rPr b="0" lang="sr-Latn-RS" sz="32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d</a:t>
            </a: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олумен дистрибу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fu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фракција слободног лека у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Latn-RS" sz="2000" spc="-1" strike="noStrike" baseline="-25000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тк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цизније израчунавање укључује понављано мерење концентрације лека у крви током неколико сати, и процену иницијалне концентрације лека у крви на основу добијеног графикон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=D/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 rot="16200000">
            <a:off x="1356480" y="4437720"/>
            <a:ext cx="3281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3cc"/>
                </a:solidFill>
                <a:latin typeface="Arial"/>
              </a:rPr>
              <a:t>Концентрација лека у плазми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og scale, mg/l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571920" y="6381720"/>
            <a:ext cx="49608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240" bIns="39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Време (</a:t>
            </a:r>
            <a:r>
              <a:rPr b="0" lang="en-US" sz="2000" spc="-1" strike="noStrike">
                <a:solidFill>
                  <a:srgbClr val="003d62"/>
                </a:solidFill>
                <a:latin typeface="Arial"/>
              </a:rPr>
              <a:t>h</a:t>
            </a:r>
            <a:r>
              <a:rPr b="0" lang="sr-CS" sz="2000" spc="-1" strike="noStrike">
                <a:solidFill>
                  <a:srgbClr val="003d6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540240" y="3068640"/>
            <a:ext cx="0" cy="331308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76520" y="58723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476520" y="53276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476520" y="47815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476520" y="424656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3476520" y="370044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76520" y="3156120"/>
            <a:ext cx="12708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3540240" y="6418440"/>
            <a:ext cx="5003640" cy="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4656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3" name="Line 15"/>
          <p:cNvSpPr/>
          <p:nvPr/>
        </p:nvSpPr>
        <p:spPr>
          <a:xfrm flipV="1">
            <a:off x="577224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4" name="Line 16"/>
          <p:cNvSpPr/>
          <p:nvPr/>
        </p:nvSpPr>
        <p:spPr>
          <a:xfrm flipV="1">
            <a:off x="687852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8010360" y="6335280"/>
            <a:ext cx="0" cy="165240"/>
          </a:xfrm>
          <a:prstGeom prst="line">
            <a:avLst/>
          </a:prstGeom>
          <a:ln w="237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3402000" y="638172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3d62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7" name="Straight Connector 26"/>
          <p:cNvSpPr/>
          <p:nvPr/>
        </p:nvSpPr>
        <p:spPr>
          <a:xfrm>
            <a:off x="4284720" y="4653000"/>
            <a:ext cx="3887640" cy="15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8" name="Arc 29"/>
          <p:cNvSpPr/>
          <p:nvPr/>
        </p:nvSpPr>
        <p:spPr>
          <a:xfrm rot="12088200">
            <a:off x="3492360" y="3852720"/>
            <a:ext cx="2089440" cy="865440"/>
          </a:xfrm>
          <a:custGeom>
            <a:avLst/>
            <a:gdLst/>
            <a:ahLst/>
            <a:rect l="l" t="t" r="r" b="b"/>
            <a:pathLst>
              <a:path stroke="0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  <a:lnTo>
                  <a:pt x="1044116" y="432048"/>
                </a:lnTo>
                <a:lnTo>
                  <a:pt x="1044116" y="0"/>
                </a:lnTo>
                <a:close/>
              </a:path>
              <a:path fill="none" w="2088232" h="864096">
                <a:moveTo>
                  <a:pt x="1044116" y="0"/>
                </a:moveTo>
                <a:cubicBezTo>
                  <a:pt x="1620765" y="0"/>
                  <a:pt x="2088232" y="193434"/>
                  <a:pt x="2088232" y="432048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59" name="Straight Connector 30"/>
          <p:cNvSpPr/>
          <p:nvPr/>
        </p:nvSpPr>
        <p:spPr>
          <a:xfrm>
            <a:off x="3541680" y="4352760"/>
            <a:ext cx="711360" cy="2797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0" name="Oval 32"/>
          <p:cNvSpPr/>
          <p:nvPr/>
        </p:nvSpPr>
        <p:spPr>
          <a:xfrm>
            <a:off x="3467160" y="428292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61" name="Straight Arrow Connector 34"/>
          <p:cNvCxnSpPr/>
          <p:nvPr/>
        </p:nvCxnSpPr>
        <p:spPr>
          <a:xfrm flipH="1">
            <a:off x="3780000" y="3933720"/>
            <a:ext cx="576360" cy="288000"/>
          </a:xfrm>
          <a:prstGeom prst="straightConnector1">
            <a:avLst/>
          </a:prstGeom>
          <a:ln w="12600">
            <a:solidFill>
              <a:srgbClr val="111519"/>
            </a:solidFill>
            <a:miter/>
            <a:tailEnd len="med" type="arrow" w="med"/>
          </a:ln>
        </p:spPr>
      </p:cxnSp>
      <p:sp>
        <p:nvSpPr>
          <p:cNvPr id="162" name="TextBox 35"/>
          <p:cNvSpPr/>
          <p:nvPr/>
        </p:nvSpPr>
        <p:spPr>
          <a:xfrm>
            <a:off x="4500720" y="3645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63" name="Rectangle 36"/>
          <p:cNvSpPr/>
          <p:nvPr/>
        </p:nvSpPr>
        <p:spPr>
          <a:xfrm>
            <a:off x="971640" y="3573360"/>
            <a:ext cx="136836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по целом организму имају Vd≈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воде у организму особе масе око 70kg (укупна количина воде у телу је око 60% телесне масе)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не напуштају интраваскуларни простор имају Vd≈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плазме у организму особе масе око 70kg (око 4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дистрибуирају само екстрацелуларном простору, а не улазе у ћелије, имају Vd≈15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одговара укупној количини екстрацелуларне течности у организму особе масе око 70kg (око 25% укупне телесне вод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екови који се у неким ткивима нагомилавају, тј постижу концентрацију већу од оне измерене у крви, имају Vd&gt;40 l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у равнотежном стању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Calibri"/>
              </a:rPr>
              <a:t>ss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Равнотежно стањ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‘’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steady state</a:t>
            </a:r>
            <a:r>
              <a:rPr b="0" i="1" lang="sr-RS" sz="2400" spc="-1" strike="noStrike">
                <a:solidFill>
                  <a:srgbClr val="003d62"/>
                </a:solidFill>
                <a:latin typeface="Calibri"/>
              </a:rPr>
              <a:t>’’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и примени једне дозе лека је тренутак у коме је дистрибуција комплетирана, па је нето проток лека из једног дела организма у други једнак нули.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 равнотежном стању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ss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израчунава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l) =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) / 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C(t)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(mg/l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(t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представља количину лека у организму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(t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нцентрацију лека у плазми у тренутк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4005360"/>
            <a:ext cx="4103640" cy="5032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0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Волумен дистрибуције (</a:t>
            </a:r>
            <a:r>
              <a:rPr b="0" lang="en-US" sz="3000" spc="-1" strike="noStrike">
                <a:solidFill>
                  <a:srgbClr val="006699"/>
                </a:solidFill>
                <a:latin typeface="Calibri"/>
              </a:rPr>
              <a:t>Vd</a:t>
            </a:r>
            <a:r>
              <a:rPr b="0" lang="ru-RU" sz="3000" spc="-1" strike="noStrike">
                <a:solidFill>
                  <a:srgbClr val="006699"/>
                </a:solidFill>
                <a:latin typeface="Calibri"/>
              </a:rPr>
              <a:t>) - </a:t>
            </a:r>
            <a:endParaRPr b="0" lang="en-US" sz="3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</a:t>
            </a:r>
            <a:r>
              <a:rPr b="0" lang="sr-RS" sz="2400" spc="-1" strike="noStrike" baseline="-25000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може искористити за израчунавање ударне доз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D, “</a:t>
            </a:r>
            <a:r>
              <a:rPr b="0" i="1" lang="en-US" sz="2400" spc="-1" strike="noStrike">
                <a:solidFill>
                  <a:srgbClr val="003d62"/>
                </a:solidFill>
                <a:latin typeface="Calibri"/>
              </a:rPr>
              <a:t>loading dose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”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L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)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C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x Vd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l)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] / F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едставља жељену концентрацију лека у крви,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d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(најбоље у равнотежном стању), 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 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иорасположивост лек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i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v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= 1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зрачунавање ударне дозе користи се када је потребно брзо постићи одређену концентрацију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код примене антиепилептика за заустављање напада или аспирина код инфаркта миокард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411280" y="2685960"/>
            <a:ext cx="4321440" cy="50508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Параметри дистрибуције лекова</a:t>
            </a:r>
            <a:br>
              <a:rPr sz="4000"/>
            </a:b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Невезана (слободна) фракција  -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евезана тј слободна фракција лека одређује концентрацију лека у близини рецептора, а тиме и ефикасност; везана фракција је ‘’резервоар’’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евезана и везана фракција лека су у равнотеж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лободна фракција лека у плазми израчунава се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Fp = Cf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/ Ct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(mg/l)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у крви, а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C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купна концентрација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987640" y="4076640"/>
            <a:ext cx="3529080" cy="504720"/>
          </a:xfrm>
          <a:prstGeom prst="rect">
            <a:avLst/>
          </a:pr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Модели дистрибуције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Терминологија: простор - компартм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Једнопросторни модел организ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вопросторни модел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централни простор (добро прокрвљени)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ериферни простор (слабије и лоше прокрвљени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ишепросторни модели (дво-, тро-, мулти-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еквестрација за ткива, крвне ћелије и др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Ткивна акумул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афинитет за специфичне молекуке нпр. кератин (гризеофулвин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специјализовани транспортни системи нпр. јод у тироиде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Једн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635280" y="2637000"/>
            <a:ext cx="1873440" cy="172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79" name="Straight Arrow Connector 6"/>
          <p:cNvCxnSpPr>
            <a:endCxn id="178" idx="1"/>
          </p:cNvCxnSpPr>
          <p:nvPr/>
        </p:nvCxnSpPr>
        <p:spPr>
          <a:xfrm>
            <a:off x="169200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80" name="Straight Arrow Connector 7"/>
          <p:cNvCxnSpPr/>
          <p:nvPr/>
        </p:nvCxnSpPr>
        <p:spPr>
          <a:xfrm>
            <a:off x="5508360" y="3499920"/>
            <a:ext cx="19436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81" name="TextBox 8"/>
          <p:cNvSpPr/>
          <p:nvPr/>
        </p:nvSpPr>
        <p:spPr>
          <a:xfrm>
            <a:off x="3096720" y="4924440"/>
            <a:ext cx="29822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C = D/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 V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6699"/>
                </a:solidFill>
                <a:latin typeface="Calibri"/>
              </a:rPr>
              <a:t> = D/C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</a:t>
            </a:r>
            <a:r>
              <a:rPr b="0" lang="sr-Latn-RS" sz="2800" spc="-1" strike="noStrike" baseline="-25000">
                <a:solidFill>
                  <a:srgbClr val="006699"/>
                </a:solidFill>
                <a:latin typeface="Calibri"/>
              </a:rPr>
              <a:t>(0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RS" sz="2800" spc="-1" strike="noStrike" baseline="30000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1800" spc="-1" strike="noStrike" baseline="30000">
                <a:solidFill>
                  <a:srgbClr val="006699"/>
                </a:solidFill>
                <a:latin typeface="Calibri"/>
              </a:rPr>
              <a:t>e</a:t>
            </a:r>
            <a:r>
              <a:rPr b="0" lang="en-US" sz="2800" spc="-1" strike="noStrike" baseline="30000">
                <a:solidFill>
                  <a:srgbClr val="006699"/>
                </a:solidFill>
                <a:latin typeface="Calibri"/>
              </a:rPr>
              <a:t>*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31964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810080" y="37512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805360" y="37512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192720" y="2778120"/>
            <a:ext cx="8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2244600" y="2790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Дв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103640" y="3651120"/>
            <a:ext cx="1116000" cy="10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89" name="Straight Arrow Connector 6"/>
          <p:cNvCxnSpPr>
            <a:endCxn id="188" idx="1"/>
          </p:cNvCxnSpPr>
          <p:nvPr/>
        </p:nvCxnSpPr>
        <p:spPr>
          <a:xfrm flipV="1">
            <a:off x="2123640" y="4150800"/>
            <a:ext cx="1980360" cy="720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cxnSp>
        <p:nvCxnSpPr>
          <p:cNvPr id="190" name="Straight Arrow Connector 7"/>
          <p:cNvCxnSpPr/>
          <p:nvPr/>
        </p:nvCxnSpPr>
        <p:spPr>
          <a:xfrm>
            <a:off x="5219640" y="4157280"/>
            <a:ext cx="1945440" cy="1080"/>
          </a:xfrm>
          <a:prstGeom prst="straightConnector1">
            <a:avLst/>
          </a:prstGeom>
          <a:ln w="9360">
            <a:solidFill>
              <a:srgbClr val="007dc9"/>
            </a:solidFill>
            <a:miter/>
            <a:tailEnd len="med" type="triangle" w="med"/>
          </a:ln>
        </p:spPr>
      </p:cxnSp>
      <p:sp>
        <p:nvSpPr>
          <p:cNvPr id="191" name="TextBox 8"/>
          <p:cNvSpPr/>
          <p:nvPr/>
        </p:nvSpPr>
        <p:spPr>
          <a:xfrm>
            <a:off x="2580120" y="5445000"/>
            <a:ext cx="3813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Vss = Vc + Vp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392720" y="382284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2241720" y="440676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Апсорп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5517720" y="440676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6699"/>
                </a:solidFill>
                <a:latin typeface="Calibri"/>
              </a:rPr>
              <a:t>Елиминација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04000" y="34336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2676600" y="34480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9640" y="1773360"/>
            <a:ext cx="24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198" name="Straight Arrow Connector 14"/>
          <p:cNvCxnSpPr/>
          <p:nvPr/>
        </p:nvCxnSpPr>
        <p:spPr>
          <a:xfrm>
            <a:off x="4427280" y="306864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99" name="Straight Arrow Connector 16"/>
          <p:cNvCxnSpPr/>
          <p:nvPr/>
        </p:nvCxnSpPr>
        <p:spPr>
          <a:xfrm flipV="1">
            <a:off x="4787640" y="3068280"/>
            <a:ext cx="1080" cy="5832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00" name="TextBox 17"/>
          <p:cNvSpPr/>
          <p:nvPr/>
        </p:nvSpPr>
        <p:spPr>
          <a:xfrm>
            <a:off x="4373640" y="20653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4724280" y="303372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3833640" y="3003480"/>
            <a:ext cx="82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6699"/>
                </a:solidFill>
                <a:latin typeface="Calibri"/>
              </a:rPr>
              <a:t>k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ропросторни модел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10364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1776600" y="5300640"/>
            <a:ext cx="533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Cp</a:t>
            </a:r>
            <a:r>
              <a:rPr b="0" lang="sr-Latn-CS" sz="2800" spc="-1" strike="noStrike" baseline="-25000">
                <a:solidFill>
                  <a:srgbClr val="006699"/>
                </a:solidFill>
                <a:latin typeface="Calibri"/>
              </a:rPr>
              <a:t>(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= A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Latn-CS" sz="2800" spc="-1" strike="noStrike">
                <a:solidFill>
                  <a:srgbClr val="006699"/>
                </a:solidFill>
                <a:latin typeface="Calibri"/>
              </a:rPr>
              <a:t> + B * 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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Calibri"/>
              </a:rPr>
              <a:t>*t)</a:t>
            </a:r>
            <a:r>
              <a:rPr b="0" lang="sr-RS" sz="2800" spc="-1" strike="noStrike" baseline="30000">
                <a:solidFill>
                  <a:srgbClr val="006699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6699"/>
                </a:solidFill>
                <a:latin typeface="Calibri"/>
              </a:rPr>
              <a:t>+ </a:t>
            </a:r>
            <a:r>
              <a:rPr b="0" lang="sr-Latn-RS" sz="2800" spc="-1" strike="noStrike">
                <a:solidFill>
                  <a:srgbClr val="006699"/>
                </a:solidFill>
                <a:latin typeface="Calibri"/>
              </a:rPr>
              <a:t>C * </a:t>
            </a:r>
            <a:r>
              <a:rPr b="0" lang="sr-Latn-CS" sz="2800" spc="-1" strike="noStrike">
                <a:solidFill>
                  <a:srgbClr val="006699"/>
                </a:solidFill>
                <a:latin typeface="Tahoma"/>
              </a:rPr>
              <a:t>e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(-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Symbol"/>
                <a:ea typeface="Symbol"/>
              </a:rPr>
              <a:t></a:t>
            </a:r>
            <a:r>
              <a:rPr b="0" lang="sr-Latn-CS" sz="2800" spc="-1" strike="noStrike" baseline="30000">
                <a:solidFill>
                  <a:srgbClr val="006699"/>
                </a:solidFill>
                <a:latin typeface="Tahoma"/>
              </a:rPr>
              <a:t>*t)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658800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619280" y="3002040"/>
            <a:ext cx="1116000" cy="100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dc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08" name="Straight Arrow Connector 5"/>
          <p:cNvCxnSpPr/>
          <p:nvPr/>
        </p:nvCxnSpPr>
        <p:spPr>
          <a:xfrm>
            <a:off x="2734920" y="3428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09" name="Straight Arrow Connector 22"/>
          <p:cNvCxnSpPr/>
          <p:nvPr/>
        </p:nvCxnSpPr>
        <p:spPr>
          <a:xfrm flipV="1">
            <a:off x="5219280" y="342828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0" name="Straight Arrow Connector 24"/>
          <p:cNvCxnSpPr/>
          <p:nvPr/>
        </p:nvCxnSpPr>
        <p:spPr>
          <a:xfrm flipH="1">
            <a:off x="521892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1" name="Straight Arrow Connector 27"/>
          <p:cNvCxnSpPr/>
          <p:nvPr/>
        </p:nvCxnSpPr>
        <p:spPr>
          <a:xfrm flipH="1">
            <a:off x="2734560" y="3644640"/>
            <a:ext cx="1369080" cy="1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2" name="TextBox 28"/>
          <p:cNvSpPr/>
          <p:nvPr/>
        </p:nvSpPr>
        <p:spPr>
          <a:xfrm>
            <a:off x="4040280" y="2046240"/>
            <a:ext cx="136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Централ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6251760" y="2050920"/>
            <a:ext cx="178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убоки 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4" name="TextBox 30"/>
          <p:cNvSpPr/>
          <p:nvPr/>
        </p:nvSpPr>
        <p:spPr>
          <a:xfrm>
            <a:off x="1670760" y="205416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кивн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ељак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  <p:cxnSp>
        <p:nvCxnSpPr>
          <p:cNvPr id="215" name="Straight Arrow Connector 32"/>
          <p:cNvCxnSpPr/>
          <p:nvPr/>
        </p:nvCxnSpPr>
        <p:spPr>
          <a:xfrm>
            <a:off x="4571640" y="400500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216" name="Straight Arrow Connector 36"/>
          <p:cNvCxnSpPr/>
          <p:nvPr/>
        </p:nvCxnSpPr>
        <p:spPr>
          <a:xfrm flipV="1">
            <a:off x="4858920" y="4004640"/>
            <a:ext cx="1080" cy="8643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217" name="TextBox 37"/>
          <p:cNvSpPr/>
          <p:nvPr/>
        </p:nvSpPr>
        <p:spPr>
          <a:xfrm>
            <a:off x="4392720" y="3213000"/>
            <a:ext cx="57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TextBox 38"/>
          <p:cNvSpPr/>
          <p:nvPr/>
        </p:nvSpPr>
        <p:spPr>
          <a:xfrm>
            <a:off x="6875640" y="3213000"/>
            <a:ext cx="72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d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9" name="TextBox 39"/>
          <p:cNvSpPr/>
          <p:nvPr/>
        </p:nvSpPr>
        <p:spPr>
          <a:xfrm>
            <a:off x="1908000" y="321300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V</a:t>
            </a:r>
            <a:r>
              <a:rPr b="0" lang="sr-Latn-RS" sz="3200" spc="-1" strike="noStrike" baseline="-25000">
                <a:solidFill>
                  <a:srgbClr val="006699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0" name="TextBox 40"/>
          <p:cNvSpPr/>
          <p:nvPr/>
        </p:nvSpPr>
        <p:spPr>
          <a:xfrm>
            <a:off x="4937040" y="428796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1" name="TextBox 41"/>
          <p:cNvSpPr/>
          <p:nvPr/>
        </p:nvSpPr>
        <p:spPr>
          <a:xfrm>
            <a:off x="4047120" y="428004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3d62"/>
                </a:solidFill>
                <a:latin typeface="Tahoma"/>
              </a:rPr>
              <a:t>k</a:t>
            </a:r>
            <a:r>
              <a:rPr b="0" lang="sr-Latn-RS" sz="2400" spc="-1" strike="noStrike" baseline="-25000">
                <a:solidFill>
                  <a:srgbClr val="003d62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Редистрибу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ставља процес враћања лека из ткива у које се већ дистрибуирао назад у крвоток, а затим прерасподелу у друга ткива зависно од врсте ткива и градијента концентрације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словљена брзином протока крви кроз ткива и способношћу лека да пролази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арактерише фармакокинетику изразито липосолубилних лекова који се примењују брзо интравенски или инхалацијом и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о постижу дејство у централном нервном или кардиоваскуларном систему као добро прокрвљеним ткив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оследицу има брз прекид дејства лека након прекида примене, јер се лек враћа назад у крв, а затим прелази у мишићно и масно ткиво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Запремина одељака и лекови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628640"/>
          <a:ext cx="8064360" cy="50292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умени телесних одељак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и леков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Укупна вода 42 Л (0.6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ли хидрофилни молекули (етанол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кстрацелуларна вода 14 Л (0.2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хидрофилни молекули (гентамиц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рв 5.6 Л (0.08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лазма 3.2 Л (0.04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молекули везани за протеине плазме (хепарин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аст 14-24.5 Л (0.2-0.35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Велики липосолубилни молекули (ДДТ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ост 4.9 Л (0.07 Л/кг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оједини јони (олово, флуорид)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мери редистрибуциј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брз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азепам у епилептичном статус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брзо настаје и слаби после 2-4 сата због редистрибуције из мозга у периферна ткива, потребна додатна доз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еофилин, лидока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рза ињекција доводи до токсичних ефеката због брзе дистрибуције у периферна ткива, места нежељених дејстава (мозак, срце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који се споро дистрибуир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гоксин интравенск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ејство расте са опадањем концентрације у крви због споријег достизања ефективне ткивне концетрације (за око 6 сати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рална ударна доза подељена на појединачне дозе сваких 6 сати ефикаснија од интравенске примене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ктори који утичу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на дистрибуцију леков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На процес дистрибуције највише утичу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собине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ипофилност, величина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257480" indent="-4572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везивање за протине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арактеристике средин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редине и прокрвље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оличина масног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физиолошких бариј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857160" indent="-45720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суство транспорт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суство других лекова (интеракције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липофилност, величина и </a:t>
            </a:r>
            <a:r>
              <a:rPr b="0" lang="en-US" sz="3600" spc="-1" strike="noStrike">
                <a:solidFill>
                  <a:srgbClr val="006699"/>
                </a:solidFill>
                <a:latin typeface="Calibri"/>
              </a:rPr>
              <a:t>pH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 лека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988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ипофилнос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што је лек липофилнији (партициони коефицијент већи), то лакше пролази мембране, али се и лакше нагомилава у масном ткив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Величина молекул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брзина пасивне дифузије обрнуто је пропорционална квадратном корену величине молекула - </a:t>
            </a: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мањи молекули лакше пролазе мембран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лека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липофилне структуре мембрана, пролаз је могућ само ненаелектрисаним молекули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албумин, слабе киселине теже да остану у плазми, због чега се слабиј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због афинитета за гликопротеине и липопротеине, слабе базе лакше напуштају плазму и боље се дистрибуирај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1. Особине лека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8204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Афинитет лека према различитим ткивим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могу везивати и за ткива на која не желимо да дел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200240" indent="-34308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нпр. дигоксин за скелетне мишиће 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лекови се везују за протеине у плазм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оба случаја им је кретање ка рецепторима отежано или онемогућено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теини плазме везују леков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лбумин најчешће везује киселе, а </a:t>
            </a:r>
            <a:r>
              <a:rPr b="0" lang="el-GR" sz="22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1-гликопротеин и липопротеини најчешће базне лекове, глобулин (тироксин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и високим концентрацијама степен везивања лека лимитиран је бројем доступних места за везивање на протеинима плазм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езивање за протеине следи Закон о дејству мас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сказује се у %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е везују неспецифичн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лекови са великим афинитетом за протеине плазме истовремено примењени један другог потискују са места везивања, повећавајући један другом слободну фракцију и ефекте (жељене и нежељен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Лекови имају различит афинитет за протеине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тепен дистрибуције у ткива зависи од везивања лека за протеине плазме - само невезана фракција подлеже дифузији у екстраваскуларни простор и даље у тки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1. </a:t>
            </a: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Особине лека </a:t>
            </a:r>
            <a:br>
              <a:rPr sz="4000"/>
            </a:b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 афинитет за ткива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и протеине плазме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ваки молекул албумина има најмање  6 домена за који се могу везати лекови и ендогени молеку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снажно и специфично везују масне киселине дугих лана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Један домен специфично везује билируб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ва домена (</a:t>
            </a:r>
            <a:r>
              <a:rPr b="0" lang="sr-Latn-RS" sz="1900" spc="-1" strike="noStrike">
                <a:solidFill>
                  <a:srgbClr val="003d62"/>
                </a:solidFill>
                <a:latin typeface="Calibri"/>
              </a:rPr>
              <a:t>I, II)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езују лекове, примарно карактеристика кисели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1 – варфарин, фенилбутазон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3d62"/>
                </a:solidFill>
                <a:latin typeface="Calibri"/>
              </a:rPr>
              <a:t>Домен 2 – диазепам</a:t>
            </a:r>
            <a:endParaRPr b="0" lang="en-US" sz="17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лфа-1 кисели гликопротеин је протеин акутне фазе запаљења, има један домен који везује лекове карактеристика баз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ипопротеини (и друге ћелије са мембраном као што су нпр. еритроцити) могу везати лекове, више процесом растварања у масној мембрани него правом међусобном молекулском реакцијом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0:00Z</dcterms:modified>
  <cp:revision>296</cp:revision>
  <dc:subject/>
  <dc:title>Fluid &amp; Electrolytes Management</dc:title>
</cp:coreProperties>
</file>